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21B-AABC-4F1C-A99A-329754A3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299-914D-4154-99B7-76D621F3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A20-0D72-48D7-9F81-57451FDB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DA7-6BED-424D-B25E-3A1DC176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701-83EC-4975-A26A-EDAA7E2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6B9-7CA0-41A3-8B30-9D76CC58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38B-6C80-4D1F-9430-51CC46AA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273-0EAA-4FBB-86A5-E52B83BC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7AA-6748-4079-B9F4-5143F340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2BF-C026-4CFD-9FB4-086A492D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375-9DE3-4694-8AF7-7A44705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653-9A32-4BAC-9EC3-7BF0D4B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33D-3424-4AB1-95CC-EB97A85A5E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 rot="20862600">
            <a:off x="203040" y="1029960"/>
            <a:ext cx="6229440" cy="1149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 rot="340200">
            <a:off x="3274560" y="414360"/>
            <a:ext cx="5450040" cy="331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20149200">
            <a:off x="698400" y="2206440"/>
            <a:ext cx="5181840" cy="340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992400">
            <a:off x="5046840" y="2023920"/>
            <a:ext cx="3581280" cy="4140360"/>
          </a:xfrm>
          <a:prstGeom prst="rect">
            <a:avLst/>
          </a:prstGeom>
          <a:ln w="0">
            <a:noFill/>
          </a:ln>
        </p:spPr>
      </p:pic>
      <p:pic>
        <p:nvPicPr>
          <p:cNvPr id="45" name="~PP3941.WAV" descr=""/>
          <p:cNvPicPr/>
          <p:nvPr/>
        </p:nvPicPr>
        <p:blipFill>
          <a:blip r:embed="rId7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862600">
            <a:off x="203040" y="1029960"/>
            <a:ext cx="6229440" cy="114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340200">
            <a:off x="3274560" y="414360"/>
            <a:ext cx="5450040" cy="331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20149200">
            <a:off x="698400" y="2206440"/>
            <a:ext cx="5181840" cy="340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992400">
            <a:off x="5046840" y="2023920"/>
            <a:ext cx="3581280" cy="4140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8610480" y="6095880"/>
            <a:ext cx="381240" cy="5205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4212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6705720" y="6324480"/>
            <a:ext cx="259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2666880" y="6257880"/>
            <a:ext cx="381024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42120" cy="59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4120" y="6248520"/>
            <a:ext cx="3809880" cy="523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 rot="10800000">
            <a:off x="151920" y="6398640"/>
            <a:ext cx="259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0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-609480" y="-228600"/>
            <a:ext cx="10310760" cy="717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514600" y="6334200"/>
            <a:ext cx="3809880" cy="523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781680" y="6458040"/>
            <a:ext cx="259092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90920" y="6334200"/>
            <a:ext cx="3809880" cy="52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756640" cy="533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553080" y="6381720"/>
            <a:ext cx="259092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66880" y="6257880"/>
            <a:ext cx="381024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0" y="2033640"/>
            <a:ext cx="9144000" cy="1776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6705720" y="6324480"/>
            <a:ext cx="259056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13:31Z</dcterms:created>
  <dc:creator>Jamie</dc:creator>
  <dc:description/>
  <dc:language>en-US</dc:language>
  <cp:lastModifiedBy>Randeep Ramamurthy</cp:lastModifiedBy>
  <dcterms:modified xsi:type="dcterms:W3CDTF">2007-12-04T00:09:48Z</dcterms:modified>
  <cp:revision>32</cp:revision>
  <dc:subject/>
  <dc:title>Slide 1</dc:title>
</cp:coreProperties>
</file>